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5715-2484-4EF3-912F-2202FC153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1C09-1E81-479D-A397-E22C70D95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8A7-3643-47E9-80DA-AEE7F077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0EB-9418-47A0-A9FF-BF2C414E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5D63-D5BD-4DE5-985B-39C1F5E4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F00-6A93-4F56-995E-B70F098B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1EB-7A5D-439B-A0C4-7349FB07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DA4E-7067-46ED-A56E-FD8F1779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A234-B624-45A1-9918-9F5B3971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2C35-E98E-4891-BE69-2AC77479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DD41-21C4-4A81-A578-AA29D698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4169-62A4-432B-84B7-35B8BBE8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076F-60F9-46CC-911B-B7157B0D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296C-AFCB-476D-A57B-F9D7032F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2ea1"/>
            </a:gs>
            <a:gs pos="100000">
              <a:srgbClr val="1024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131B-091C-44F3-A70D-4B4CAC0E0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g50sAqkvWbc" TargetMode="External"/><Relationship Id="rId3" Type="http://schemas.openxmlformats.org/officeDocument/2006/relationships/hyperlink" Target="http://www.youtube.com/watch?v=g50sAqkvWbc" TargetMode="External"/><Relationship Id="rId4" Type="http://schemas.openxmlformats.org/officeDocument/2006/relationships/hyperlink" Target="http://www.youtube.com/watch?v=g50sAqkvWbc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g17f9J1-r-k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29123" r="0" b="-4380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685800" y="685800"/>
            <a:ext cx="7696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c60a"/>
                </a:solidFill>
                <a:latin typeface="BlairMdITC TT-Medium"/>
              </a:rPr>
              <a:t>17.2 Curr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60a"/>
                </a:solidFill>
                <a:latin typeface="BlairMdITC TT-Medium"/>
              </a:rPr>
              <a:t>pages 593-5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2578320" y="5318280"/>
            <a:ext cx="46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et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’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 get an introdu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ductors vs. Ins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uctors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flow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ulators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do not flow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iconductors conduct under certain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e state: ins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 of specific atoms allows electric charge to be con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in manufacturing of most electronic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cessary due to change in temp &amp; composition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 alter con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: Silicon and Germanium in computer boards; LED 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5749920" y="1905120"/>
            <a:ext cx="3378240" cy="105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ternating vs. Direct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ng Current (AC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that comes from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wer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 of curr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witch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alternates (60 times per second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wer we receive from a wall socket in the U.S. is 120V, 60 cycl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lternat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ternating vs. Direct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Current (DC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tter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uel cells, and mo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v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l produce D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+ and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rmin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 battery are always respectively positive and neg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lways in the one direction (direct) between two termi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 why have two types of cur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 Franklin AC vs. DC video c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ason we have two types of current is because AC is best used for power gr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 able to travel far distances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DC is commonly used in household applianc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these devices need DC, that means that the device has to convert AC to DC and sometim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lost in the form of HEAT (which is why your laptop may feel war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907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it mean if you have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tenti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o some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ll rolli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wnhi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ves 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vitationa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tenti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ergy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w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vitationa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tenti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 charges do the same thing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gative charge will move away from another negativ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411480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al Potenti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57200" y="1905120"/>
            <a:ext cx="434340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ctrical potential energ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he ability to move an electric charge from one point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4952880" y="266688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lectrical potenti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two like charge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sta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tween the charge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rea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and vice vers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434340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560" y="990720"/>
            <a:ext cx="8839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enti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rgy 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changes depending on the distance b/w the char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ff66"/>
                </a:solidFill>
                <a:uFillTx/>
                <a:latin typeface="Arial"/>
              </a:rPr>
              <a:t>Repul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e (2 like charges)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 </a:t>
            </a:r>
            <a:r>
              <a:rPr b="0" lang="en-US" sz="2400" spc="-1" strike="noStrike" u="sng">
                <a:solidFill>
                  <a:srgbClr val="ccff66"/>
                </a:solidFill>
                <a:uFillTx/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y get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72bf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2bfc5"/>
                </a:solidFill>
                <a:uFillTx/>
                <a:latin typeface="Arial"/>
              </a:rPr>
              <a:t>Attr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e (2 opp. charges)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 </a:t>
            </a:r>
            <a:r>
              <a:rPr b="0" lang="en-US" sz="2400" spc="-1" strike="noStrike" u="sng">
                <a:solidFill>
                  <a:srgbClr val="72bfc5"/>
                </a:solidFill>
                <a:uFillTx/>
                <a:latin typeface="Arial"/>
              </a:rPr>
              <a:t>de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y get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-425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ulsive &amp; attractive PE are opposite of one anot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5448600" cy="269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Rectangle 4"/>
          <p:cNvSpPr/>
          <p:nvPr/>
        </p:nvSpPr>
        <p:spPr>
          <a:xfrm>
            <a:off x="228600" y="44956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practical to consid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tentia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 what is potential dif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1752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8640" indent="-43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an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electrical PE divided by its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difference = 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Change in electrical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han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ccurs as a charge moves from one place to another in an electrical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640" indent="-43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difference is measured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ol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38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is reason, potential difference is often called voltage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asically the force through which e- move along a conduc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43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oltage &amp; Batt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840" y="6094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tage (potential difference) across two ends (terminals) of a battery ranges from 1.5 V (small battery) – 12 V (c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tage causes charges to mov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rom side with higher PE to lower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tteries are </a:t>
            </a:r>
            <a:r>
              <a:rPr b="1" lang="en-US" sz="2400" spc="-1" strike="noStrike" u="sng">
                <a:solidFill>
                  <a:srgbClr val="ff6666"/>
                </a:solidFill>
                <a:uFillTx/>
                <a:latin typeface="Arial"/>
              </a:rPr>
              <a:t>cel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devices that </a:t>
            </a:r>
            <a:r>
              <a:rPr b="0" lang="en-US" sz="2400" spc="-1" strike="noStrike" u="sng">
                <a:solidFill>
                  <a:srgbClr val="ff6666"/>
                </a:solidFill>
                <a:uFillTx/>
                <a:latin typeface="Arial"/>
              </a:rPr>
              <a:t>produ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electric </a:t>
            </a:r>
            <a:r>
              <a:rPr b="0" lang="en-US" sz="2400" spc="-1" strike="noStrike" u="sng">
                <a:solidFill>
                  <a:srgbClr val="ff6666"/>
                </a:solidFill>
                <a:uFillTx/>
                <a:latin typeface="Arial"/>
              </a:rPr>
              <a:t>curr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US" sz="2400" spc="-1" strike="noStrike" u="sng">
                <a:solidFill>
                  <a:srgbClr val="ff6666"/>
                </a:solidFill>
                <a:uFillTx/>
                <a:latin typeface="Arial"/>
              </a:rPr>
              <a:t>converting chemic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radiant energy </a:t>
            </a:r>
            <a:r>
              <a:rPr b="0" lang="en-US" sz="2400" spc="-1" strike="noStrike" u="sng">
                <a:solidFill>
                  <a:srgbClr val="ff6666"/>
                </a:solidFill>
                <a:uFillTx/>
                <a:latin typeface="Arial"/>
              </a:rPr>
              <a:t>into electric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rolyt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lectrically conducting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rod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two; each diffe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iv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dry or 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voltag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and vice ver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r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638680" y="3962520"/>
            <a:ext cx="3486240" cy="233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ctric curr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rate at which charges (e-) move through a con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is measured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per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1 ampere of current = 1 coulomb of charge moving past a point in 1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 of current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ppos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the direction the e-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&amp; E- Flow 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-25560" y="1752480"/>
            <a:ext cx="916956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ff06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a7ff06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a7ff0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a7ff06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a7ff06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ect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 will flow toward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pposi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arge.  That’s which direction?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ight to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ff06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7ff06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\\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urr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\ is the opposite directio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.  Left to ri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ff0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7ff0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7ff06"/>
                </a:solidFill>
                <a:latin typeface="Arial"/>
              </a:rPr>
              <a:t>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\\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urr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\ does flow fro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sitive to nega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/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ect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 do get pulled towards the positiv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we define electric current to be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pposi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rection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ctron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al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bulbs use different amounts of power b/c different currents i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ce in currents is due to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ff30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005"/>
                </a:solidFill>
                <a:uFillTx/>
                <a:latin typeface="Arial"/>
              </a:rPr>
              <a:t>Resist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aused by internal </a:t>
            </a:r>
            <a:r>
              <a:rPr b="0" lang="en-US" sz="3200" spc="-1" strike="noStrike">
                <a:solidFill>
                  <a:srgbClr val="ff3005"/>
                </a:solidFill>
                <a:latin typeface="Arial"/>
              </a:rPr>
              <a:t>fri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005"/>
                </a:solidFill>
                <a:latin typeface="Arial"/>
              </a:rPr>
              <a:t>slow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movement of </a:t>
            </a:r>
            <a:r>
              <a:rPr b="0" lang="en-US" sz="3200" spc="-1" strike="noStrike">
                <a:solidFill>
                  <a:srgbClr val="ff3005"/>
                </a:solidFill>
                <a:latin typeface="Arial"/>
              </a:rPr>
              <a:t>char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a condu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stance = 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vol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572000" y="54100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 =  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5638680" y="4191120"/>
            <a:ext cx="35053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R= resistance (ohm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Lucida Grande"/>
              </a:rPr>
              <a:t>Ω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Lucida Grande"/>
              </a:rPr>
              <a:t>V= voltage (volts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Lucida Grande"/>
              </a:rPr>
              <a:t>I= current (ampere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5943600" y="54100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T’S TRY SOME EXAMPLES ON YOUR NOTEGUI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4:26:12Z</dcterms:created>
  <dc:creator>Sarah Sewatsky User</dc:creator>
  <dc:description/>
  <dc:language>en-US</dc:language>
  <cp:lastModifiedBy>Jillian Boisse</cp:lastModifiedBy>
  <cp:lastPrinted>2013-11-05T19:04:26Z</cp:lastPrinted>
  <dcterms:modified xsi:type="dcterms:W3CDTF">2015-10-27T14:42:43Z</dcterms:modified>
  <cp:revision>45</cp:revision>
  <dc:subject/>
  <dc:title>PowerPoint Presentation</dc:title>
</cp:coreProperties>
</file>